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1F4-82AF-458E-A039-180C34AB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CFD-96E3-43A0-B843-82FCE242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23B-B846-4D0D-A2C8-B9281FA9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7B6-E7D9-4BBF-806C-FA831CA3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68F-EFDE-46C8-917D-04019CB1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257-8212-4F83-B6F5-51A735F3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3FC4-D463-4553-889A-910174AA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E0F-8E27-445D-8787-16342191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F74F-9F3C-4734-A0CF-18D314BC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1B5-D4DC-43CB-AB11-BD7C02EC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C05-1EE8-4686-B686-C7133AB6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641-6C62-42E2-ADA8-1985B754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F9F7-2F94-4026-BE2A-4F64DC26E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ction 5 - Caring for Firefighters During Rehab Operations 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lain the requirements for rehabbing firefighter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scribe the rehab process, including self-rehab and formal rehab operation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vide medical treatment to firefighters in the rehab area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lain hydration strategies and dehydration concerns associated with rehab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ct appropriate fluids and foods for rehab operation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ime Needed in Rehab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responder’s level of physical condition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atmospheric condi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nature of the activities the responder was performing before entering reha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time needed for adequate rehydration and/or eat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FPA 1584 says 10 minutes after the initial assessment and 20 minutes if two SCBAs have been used or 40 minutes of heavy work performe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Three Dispositions for Responders Sent to The Treatment Area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38120" y="1600200"/>
            <a:ext cx="487692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responder responds appropriately to rest and rehydration and is able to return to action or return to quarters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ndard, basic EMS treatment procedures are initiated and the firefighter is monitore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vanced medical treatment, followed by transport to a medical facility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365760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09680" y="3962520"/>
            <a:ext cx="1778040" cy="2666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ransportation Unit Consideration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525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number of transport units needed will depend on the size of the incident; one is the minimu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sonnel working the Treatment Unit should not also be responsible for transpor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Transportation Unit Leader should verify hospital status and capabilitie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one ambulance transports, replace it with another standby unit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3429000" cy="228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248520" y="4191120"/>
            <a:ext cx="2193840" cy="2438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assignment Unit Disposi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14440" y="1600200"/>
            <a:ext cx="48006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ssign to another function on the emergency scen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turn to service and return to the station or home, as the case may b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nsport to a hospital for further evaluation and/or treatment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243240" cy="4876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ptions for Remaining Crew Member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ir up with another group of firefighter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ssign to a function that can be handled with the remaining number of crew members.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moved from service, particularly if their crewmate was seriously injured or killed.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05520" y="4200480"/>
            <a:ext cx="3855960" cy="212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bjective 5-3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vide medical treatment to firefighters in the rehab area.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hab Area Injuries and Illness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5720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umatic injuri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rmal injuri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ess-related illnesse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spiratory illnesse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511960" y="1676520"/>
            <a:ext cx="3251160" cy="4876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umatic Injuri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800600" cy="518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se include cuts, sprains, strains, debris in eyes, et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oroughly clean and wrap cuts and small bur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lint possible sprains or fractures and transpor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 not allow person to return to the incident if their injury could be made wor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168880" y="2616120"/>
            <a:ext cx="3898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ress-Related Illness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525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y be psychological and physiologic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creased ability to mobilize the fight-or-flight respon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creases or decreases in the firefighter’s appetit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ppression of the firefighter’s autoimmune syste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 alteration in the perception of the severity of pai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4038840" cy="2692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gns of Overstressed Firefighter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472428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appropriate levels of angry or aggressive behavio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vious emotional symptoms such as crying, yelling, or a sense of panic, often in an uncontrolled mann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gns of being withdrawn, in a state of shock, or being depresse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52880" y="2286000"/>
            <a:ext cx="3962520" cy="2641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7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bjective 5-1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plain the requirements for rehabbing firefighters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wo Types of Physiological Injuri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373392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rt Attack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ok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733920" y="2346480"/>
            <a:ext cx="5221080" cy="3444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assic Cardiac Symptom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ortness of breath, beyond that of someone who simply has been working hard and is tired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ghtness in the chest or chest pain, often radiating to the back, abdomen, or down one or both arm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usually rapid, slow, or otherwise irregular pulse and/or the sensation of heart palpitations.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mmon Signs of Strok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re headach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fficult, slurred, or lost speech abilit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cial droop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akness or paralysis on one side of the body, typically on the opposite side of the body from any present facial droop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ung Toxin Symptom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57240" y="1599840"/>
            <a:ext cx="5257800" cy="525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y include a cough, breathlessness, wheezing, and excessive bronchial secretion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mptoms may start relatively soon after exposure to the smoke and continue to develop for up to 36 hour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ult respiratory distress syndrome or delayed pulmonary edema may occur in severe cases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200400" cy="48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rbon Monoxide (CO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 is an asphyxiant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existing medical conditions increase susceptibility to CO poisoning, including hyperthyroidism, obesity, bronchitis, asthma, heart disease, and alcoholism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or exposure symptoms include headache, nausea, vomiting, drowsiness, red/flushed skin appearance, and poor coordination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rate or severe CO poisoning causes confusion, unconsciousness, chest pain, shortness of breath, and coma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Hydrogen Cyanide (HCN)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Times New Roman"/>
              </a:rPr>
              <a:t>Lighter than air and readily absorbed in the lung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Times New Roman"/>
              </a:rPr>
              <a:t>Acts as a cellular asphyxiant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Times New Roman"/>
              </a:rPr>
              <a:t>CNS signs and symptoms usually develop rapidly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Times New Roman"/>
              </a:rPr>
              <a:t>Syptoms include excitement, eye irritation, headache, confusion, dizziness, nausea, vomiting, and weaknes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Times New Roman"/>
              </a:rPr>
              <a:t>As poisoning progresses, drowsiness, tetanic spasm, lockjaw, convulsions, hallucinations, shortness of breath chest tightness,  loss of consciousness, and coma may occur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asily confused with CO poisoning; difficult to diagnose in the field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moke Inhalation Treatmen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56386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ive high flow humidified oxygen. Intubate or ventilate if necessary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ubate immediately if there is stridor or respiratory distress, facial or neck burns, erythema, blistering or edema of the oropharynx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advanced life support personnel are available, start IV therapy according to local protocol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port the victim to a medical facility as soon a possible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429000" cy="228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27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bjective 5-5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21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plain hydration strategies and dehydration concerns associated with rehab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ydration is the Key!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0% of the human body is wat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human body loses water in urine, in stool, during exhalation, and through sweating.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uring extreme work or exposure to high atmospheric temperatures, the majority of water lost from the body is from sweating.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dividual Sweat Factor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52578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individual’s metabolism and physical fitnes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level of exer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atmospheric temperatur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amount of clothing and PPE being worn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640480" y="1828800"/>
            <a:ext cx="308268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NFPA 1584 Guidelin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Guideline #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 Self-rehab (with hydration) for at least 10 minutes following the depletion of one 30-minute SCBA cylinder or after 20 minutes of intense work without wearing an SCBA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Guideline #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 Must enter a formal rehab area, drink appropriate fluids, be medically evaluated, and rest for a minimum of 20 minutes after any of the following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pletion of two 30-minute SCBA cylind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pletion of one 45- or 60-minute SCBA cylind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llowing 40 minutes of intense work without an SCB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olyt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lude sodium, potassium, calcium, and magnesium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st in the same way as wat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refighters who are taking diuretic medications, such as Lasix®, will be especially susceptible excessive amounts of electrolyte los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lace with sports drinks.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mple and Complex Carbohydrat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mple carbohydrates: Sugars such as glucose, sucrose, dextrose, lactose, and fructo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nd in fruits, milk, processed sugar, and honey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lex carbohydrates: Molecules made up of three or more sugar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nd in starchy foods, such as bread, pasta, and potatoe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body has a limited ability to store carbohydrate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um to long duration incident will require carbo replacement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ehydra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95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rink at least 6-8 oz of fluids every 6 hou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nitor urine output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void excessive amounts of caffeinated beverage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ior of (within 24 hours) causes dehydration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crease fluids if doing practical training exercises or physical training on duty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3236760" cy="4876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dydra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uld drink 2-4 oz minimum during self-reha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y drink 12 to 32 oz in formal reha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 not drink too muc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rely dehydrated personnel may require an IV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st continue to rehydrate even after leaving the scen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038480" cy="2692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80880" y="4268880"/>
            <a:ext cx="3657600" cy="2427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99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bjective 5-5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lect appropriate fluids and foods for rehab operations.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luids for Rehab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10552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pensed from individual or bulk storage container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dividual serving containers are best suited for small incidents; bulk containers for large incident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rinking cups will be needed if using bulk container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ve trash receptacles available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3783240" cy="3809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nsiderations for Choosing a Rehab Fluid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38480" y="1980720"/>
            <a:ext cx="502920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ust be tast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ust be easily tolerable to the digestive system.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ould be nutritionally sound and replace electrolytes, carbohydrates and wate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290760" cy="4952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uitable Drinks for Rehab Operation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 is always good; does not replace electrolytes and carbohydrates.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ffee, tea, soda, hot chocolate, dairy products, fruit juices, and high energy drinks (like Red Bull) are not goo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ort beverages replace water, electrolytes, and simple carbohydrates and are preferred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me agencies mix these 50/50 with water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ood Service in Rehab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800600" cy="525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ually only needed at incidents that exceed 2-3 hour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y be needed sooner at late night/early morning incident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- to medium-duration incidents typically only require prepackaged food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ong-duration incidents may require meal-like support operations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3886200" cy="3532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ood Provider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8006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re department canteen uni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dependently operated canteen units (Red Crass, Salvation Army, etc.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rought to the scene by department members, church groups, or civic organiz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mercial caterer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733560" cy="196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724280" y="4838760"/>
            <a:ext cx="4187880" cy="1790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715000" y="3505320"/>
            <a:ext cx="3041640" cy="1547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84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bjective 5-2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scribe the rehab process, including self-rehab and formal rehab operations.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ood for Rehab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91320" cy="525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st food that is better than nothing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ek a balance of carbohydrates, fats, and protei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uits, doughnuts, candy bars, and energy bars are useful at short incident with no canteen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nteen units may serve hot dogs, hamburgers, egg sandwiches, cold cut sandwiches, soups, and stew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ull service, long term caterers typically provide three full meal services per day at major incident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146320" cy="2129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489800" y="2666880"/>
            <a:ext cx="1654200" cy="2133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553080" y="4702320"/>
            <a:ext cx="221004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ood Serving Principl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h your hands before eating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 food serving equipment must be sanitary and fully compliant with local health department regulation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 foods should be fresh and stored appropriately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ve preestablished agreements with local grocery or food providers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visions must be made for collecting and disposing of trash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 medium and long term operations rotate out personnel and volunteers who are serving food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lf-Rehab Procedur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95320" y="1599840"/>
            <a:ext cx="4496040" cy="51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ually done after expending one SCBA or short periods of heavy work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uld be built into training ground evolution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ve appropriate PP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ink at least 2-4 oz every 20 minutes; more in extreme condi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uld rest for at least 10 minut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 other firefighters service SCBA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300480" cy="50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umber of Personnel Needed to Run the Rehab Area Depend On…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57200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number of personnel requiring rehab servi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duration of the incid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environmental conditions at the time of the incid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ponder’s condition when they arrive at the rehab area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4267080" cy="284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ntry Point/Initial Assessment Area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64832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veryone must go through this entry point and be logged in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ed SCBA and PPE, if appropriat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ck vital signs and be observed for other problem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y be sent to the Treatment Unit or Refreshment Unit, depending on their condition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0" y="2565360"/>
            <a:ext cx="4419720" cy="294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nd to the Treatment Area if…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lse is in excess of 120 bpm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dy temperature is in excess of 100.5ºF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astolic blood pressure is above 90 mmH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ystolic blood pressure is above 130 mmH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owing signs of chest pains, shortness of breath, altered level of consciousness, extreme fatigue, poor skin color, and similar symptom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st/Refreshment Unit Responsibiliti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38862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viding res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viding flui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viding nutri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86200" y="1676520"/>
            <a:ext cx="4114800" cy="2743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92560" y="4114800"/>
            <a:ext cx="3668760" cy="2459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20:51:03Z</dcterms:created>
  <dc:creator> </dc:creator>
  <dc:description/>
  <dc:language>en-US</dc:language>
  <cp:lastModifiedBy> </cp:lastModifiedBy>
  <dcterms:modified xsi:type="dcterms:W3CDTF">2008-03-17T21:51:51Z</dcterms:modified>
  <cp:revision>36</cp:revision>
  <dc:subject/>
  <dc:title>Section 5 - Caring for Firefighters During Rehab Operations </dc:title>
</cp:coreProperties>
</file>